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C4C-CF38-4220-A55A-6C6854F9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889-7C3B-47F2-B722-7356FC55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F24-DEFB-4061-A7D5-5AD11C26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040-4B50-466E-B3B6-34C2A49C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0B86-FC3D-4377-B15C-0DD9DAC9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F040-C641-467B-AA36-A1783BCC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0492-A6BB-4FCD-B255-ED256C2F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243C-8367-49AF-967E-2B02CB61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8C1D-86DB-4BBB-B298-DB72C37C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F05B-FB29-4BF8-86D4-5D57D1C4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2BD2-F184-4BE1-9694-FF36C427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901-7984-42AB-81A1-021008FC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8076-CF38-4A9B-A11B-FC238C8F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C482-D933-4917-AB88-E776056D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0D4B-C7AC-4B0F-8C1D-01CC0315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B4E4-3C0D-4E50-B824-996ED909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0450-18C6-4214-AFC7-DE536212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521-7258-4830-9967-39CCDB90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104-C4FF-4B3B-B793-72B0B74D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5A8-97B9-49A8-9C8C-39DC89BD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DFD-5090-4FE8-AA6D-920806BB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213-B064-4E9F-9C96-1CA3E3D6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9DF-9B83-48D0-A51C-1CAED64B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573-7D86-47AD-A24A-4E664A44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718D-9D16-4464-96BC-4DE9FEAB43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7693-953F-4F78-B477-CD2F7DF4103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empresas de Trabajo Tempor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quella cuya actividad consiste en poner a disposición de otra empresa usuaria, con carácter temporal, a trabajadores contratados por ella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Las empresas de trabajo temporal han de ser autorizadas por la autoridad laboral, que les exige una serie de condiciones de seriedad publicidad y dedicación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uando se trabaja a través de una ETT se da la peculiaridad de que, a pesar de que el empresario o empleador es la ETT ( y por tanto es quien está obligado a pagar el salario y a darle de alta en la Seguridad Social), el trabajador presta servicios temporales para la empresa usuaria, que, a su vez, ha celebrado un contrato con la ETT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Verdana"/>
              </a:rPr>
              <a:t>En definitiva en el trabajo por medio de la ETT hay dos relaciones contractuales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* El contrato de puesta a disposición, que liga a la empresa usuaria y a la ETT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* El contrato de trabajo que liga el trabajador y la ETT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56000" y="54936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765000"/>
            <a:ext cx="3816360" cy="368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MPRESA DE TRABAJO TEMPORA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372360" y="2349360"/>
            <a:ext cx="165564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TRATO DE TRABAJ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4005360"/>
            <a:ext cx="16556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abajad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492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421000"/>
            <a:ext cx="187164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TRATO DE PUESTA A DISPOSI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1385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3933720"/>
            <a:ext cx="172908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mpresa usuari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987640" y="5589720"/>
            <a:ext cx="3097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restación de actividad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588000" y="1125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08720" y="112536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997360"/>
            <a:ext cx="0" cy="936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4437000"/>
            <a:ext cx="0" cy="1440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5805360"/>
            <a:ext cx="122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547640" y="1052640"/>
            <a:ext cx="122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1052640"/>
            <a:ext cx="0" cy="1296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3357720"/>
            <a:ext cx="0" cy="718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4797360"/>
            <a:ext cx="0" cy="107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5805360"/>
            <a:ext cx="1440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4221000"/>
            <a:ext cx="863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413856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Poder de direcci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1413000"/>
            <a:ext cx="0" cy="64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22050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Poder Sancionado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RECHOS DEL TRABAJADOR EN LA ET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ETT es la empresa obligada a la realización del contrato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l trabajador tendrá derecho a recibir el salario que, como mínimo, le correspondiera en la empresa usuaria. Se incluirá la indemnización equivalente a 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la parte proporcional de 12 días d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salario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por cada año de servicio  o la establecida en su caso a la finalización de los contrato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ETT será la responsable de cumplir las obligaciones de Seguridad Social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ETT será responsable de la formación e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teria de prevención de riesgos laboral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rá nula toda cláusula que obligue al trabajador a pagar a la empresa de trabajo temporal cualquier cantidad a título de gasto de selección, formación o contrat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RECHO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 LA EMPRESA USUARI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La empresa usuaria es la obligada a informar al trabajador sobre los riesgos laborales y a establecer las medidas de protección correspondien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Será responsable subsidiaria de las obligaciones salariales y de seguridad social, así como en las obligaciones derivadas de la extinción del contrato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Los trabajadores podrán establecer reclamaciones a través de los órganos de representación de la empresa usuari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Los trabajadores podrán utilizar todas las instalaciones de la empresa usuari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Garantizarán la igualdad de trato entre los trabajadores cedidos y los de la usuari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Informar al trabajador cedido de los puestos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vacantes en la empresa usuar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erecho del trabajador a desarrollar de forma real las tareas para las cuales fue contratado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artir de 1/4/2011 podrán celebrarse contratos de puesta a disposición en las actividades peligrosas (minería, industrias extractivas por sondeos, plataformas marinas, explosivos y alta tensión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artir de 1/1/2011 se suprimen todas las limitaciones para la celebración de contratos de puesta a disposición por las ETT, incluidos contratos con las Administraciones Públicas (excepto tareas que por ley se reserven a funcionario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333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Políticas de empleo y Agencias de coloc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52640"/>
            <a:ext cx="88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Nueva definición de intermediación laboral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Es el conjunto de acciones que tienen por objeto poner en contacto a las empresas con los trabajadores que buscan un empleo. La intermediación laboral tiene como finalidad proporcionar a los trabajadores un empleo adecuado a sus características y facilitar a los empresarios los trabajadores más apropiados a sus necesidades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ambién se considera intermediación laboral la actividad destinada a la recolocación de los trabajadores que resulten excedentes en procesos de reestructuración empresaria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16000" y="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gencias de coloc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836640"/>
            <a:ext cx="889308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s agencias de colocación son aquellas entidades públicas o privadas, con o sin ánimo de lucro, que realicen actividades de intermediación laboral, como colaboradores de los Servicios Públicos de empleo, bien de forma autónoma pero coordinada con los mismo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alizarán actividades relacionadas con la búsqueda de empleo, como orientación e información profesional y selección de personal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 pueden cobrar a los trabajadores por sus servicios de intermediació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quisitos de autorización del servicio público de emple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laboración con los servicios públicos de empleo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rvicio de carácter público, independientemente del agente que realice la intermediación laboral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utorización del Servicio Público de Empleo Estatal para actuar en distintas CCA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7:46Z</dcterms:created>
  <dc:creator>Acer Aspire</dc:creator>
  <dc:description/>
  <dc:language>en-US</dc:language>
  <cp:lastModifiedBy>Acer Aspire</cp:lastModifiedBy>
  <dcterms:modified xsi:type="dcterms:W3CDTF">2010-11-10T23:12:35Z</dcterms:modified>
  <cp:revision>25</cp:revision>
  <dc:subject/>
  <dc:title>Diapositiva 1</dc:title>
</cp:coreProperties>
</file>